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3AD5-3C54-4E23-AAF2-31230907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4D1-05EA-4657-9669-7E7546EF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B228-8DE2-4156-B2AE-8CF2FBF0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7D0-71F6-41B5-91C2-81D39246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F31-AAA4-4A77-B447-B57E124B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602-1EC6-4561-BCBC-F93B3DB4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AF8C-6BB5-44B8-A741-69940C76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143-AF95-499F-849B-8B7168A8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F2B-43A8-47F5-B12F-E0C60E39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469-EFF3-4CB4-9965-4067CB82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4DF-5D2C-4443-915F-A2CAFAD9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A95-D954-4689-9BC2-4E4D80F1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4922-4516-4C6E-B576-38286522A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3725" t="11114" r="7845" b="88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0185" t="11788" r="8332" b="57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4814" t="13471" r="10185" b="74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3888" t="16838" r="12038" b="107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1112" t="11788" r="8332" b="59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2038" t="11788" r="8332" b="57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3888" t="16838" r="12038" b="10769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2038" t="11788" r="9258" b="5719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1112" t="13471" r="8335" b="57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10185" t="11788" r="8332" b="57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ore</cp:lastModifiedBy>
  <dcterms:modified xsi:type="dcterms:W3CDTF">2009-01-22T23:49:1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